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69E-CA32-427A-A514-AB04975E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9CD-4E7C-4E6E-ACCE-41E1E60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9EC-970C-4C1F-AFF1-00AEFA68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AB4-D2BF-4371-BE11-D408E9FA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6F3-6601-4CD7-9EAD-8059901B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42B-42FC-4BE4-84F4-0A18A85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675-3A7C-4763-9C4D-B8473501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BC2-D39C-4414-A52C-1639231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D3B-8EA1-4DD6-A76C-74CDF917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523-CFAE-432A-AB77-20ED712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B45-6FC2-4EF9-8D82-3639F4D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557-37B1-4E89-8962-ECC7A85A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F99-071D-4710-A536-62E31780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63600"/>
            <a:ext cx="38862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7800" y="298440"/>
            <a:ext cx="388620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سقي عط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كأس 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سي عر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ثوب 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فكف الد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الع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ف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قلوب بالرجاء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04920"/>
            <a:ext cx="38098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أقبّل رف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دون 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م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روح الإنتقا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ّ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يُرَمّ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قلبي الجف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ذوب نف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كيان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23:56Z</dcterms:created>
  <dc:creator>xp</dc:creator>
  <dc:description/>
  <dc:language>en-US</dc:language>
  <cp:lastModifiedBy>xp</cp:lastModifiedBy>
  <dcterms:modified xsi:type="dcterms:W3CDTF">2004-12-13T15:12:24Z</dcterms:modified>
  <cp:revision>16</cp:revision>
  <dc:subject/>
  <dc:title>Slide 1</dc:title>
</cp:coreProperties>
</file>